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728-64C1-4619-A1B5-75C5465C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627-C585-4B18-B38C-65965FDD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A0A-14D4-455C-81C9-10FFCCC1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5AE-0A30-4780-BE7F-38007E48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64E-A784-400D-999B-64F7A21B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0A7-9F25-498C-B8B1-F7BEC95E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636-CD8B-41B4-8EC4-C1B3310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15F-EAE6-4BC1-A62E-087BD7F5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1DB-276E-47B9-A31D-791E29F1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450-A49F-450A-AD53-DF93CF17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907-AD48-4150-9ABE-2AB0676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608-06B3-4884-9A36-6B09B7E0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9DA5-1BA8-44D8-9597-A4305EC840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16:00 to 17:0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9:00 to 10:3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 Alan Stewart N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Chair Bill Kautz US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5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M Arlington, Virginia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6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ch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2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e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7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1 TOR for WG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3 WRC07 re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13/15 IWRAP SG12 Liaison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orld-Wide Radio Communication Plan (IALA WWRC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work towards drafting the IALA WWRC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future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urrent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we kee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become redunda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lated bodies and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fere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ALA FTP site for posting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refle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eg timescales for input do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ork on IALA WW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liaison not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ny proposed liaison n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33:14Z</dcterms:created>
  <dc:creator>LiamC</dc:creator>
  <dc:description/>
  <dc:language>en-US</dc:language>
  <cp:lastModifiedBy>LiamC</cp:lastModifiedBy>
  <dcterms:modified xsi:type="dcterms:W3CDTF">2008-09-18T10:51:15Z</dcterms:modified>
  <cp:revision>27</cp:revision>
  <dc:subject/>
  <dc:title>PowerPoint Presentation</dc:title>
</cp:coreProperties>
</file>