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298-0E37-45AC-A0C7-389F3450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9AE-F8D2-4B99-9213-BD7FA4C5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B43-62C8-44FD-92B5-9DDF976E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CDA-1930-409E-9CBB-99B4E3D0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808-83EE-496F-A865-474C7146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35B-0511-42D9-B7BA-362D790D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C1D-7E60-4069-9BAB-A55340EB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AEC-7FA4-406B-B4ED-B95C683B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60E-531F-41C8-BA6D-4E9E9C7D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75C-AD29-453C-BBEB-75CCEEF3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A9F-2403-4D51-AF06-77515297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A1E-F32E-4B63-BD0E-2E5ED0AB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E932-D481-4A14-989D-48068096E0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7467480" y="609480"/>
          <a:ext cx="990720" cy="114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609480"/>
                    <a:ext cx="990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762120" y="2666880"/>
          <a:ext cx="7772400" cy="312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666880"/>
                    <a:ext cx="77724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6094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Sea Trials – 9</a:t>
            </a:r>
            <a:r>
              <a:rPr b="0" lang="en-GB" sz="2800" spc="-1" strike="noStrike" baseline="30000">
                <a:solidFill>
                  <a:srgbClr val="ff9900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 June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Northern Lighthouse Board, Oban, Scot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296480" y="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-NAV5/9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6248520" y="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4" descr="C:\Documents and Settings\ChrisM\Desktop\buoy 5.jpg"/>
          <p:cNvPicPr/>
          <p:nvPr/>
        </p:nvPicPr>
        <p:blipFill>
          <a:blip r:embed="rId3"/>
          <a:stretch/>
        </p:blipFill>
        <p:spPr>
          <a:xfrm>
            <a:off x="7696080" y="1752480"/>
            <a:ext cx="1535400" cy="14353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0"/>
          <p:cNvGraphicFramePr/>
          <p:nvPr/>
        </p:nvGraphicFramePr>
        <p:xfrm>
          <a:off x="0" y="533520"/>
          <a:ext cx="9144000" cy="53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Oban Sea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Hosted by Northern Lighthouse Board (NL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to 13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June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NLB Oban Depot, Gallanach Rd, Oban, Argyll, Scotland.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34 4LS.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0"/>
          <p:cNvGraphicFramePr/>
          <p:nvPr/>
        </p:nvGraphicFramePr>
        <p:xfrm>
          <a:off x="7010280" y="380880"/>
          <a:ext cx="1122480" cy="14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80880"/>
                    <a:ext cx="1122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0" y="820800"/>
          <a:ext cx="9296280" cy="52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0800"/>
                    <a:ext cx="9296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28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Oban Sea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Joint initiativ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K G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Northern Lighthouse Board (NL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missioners of Irish Lights (C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rinity House (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K M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Maritime Coastguard Ag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7010280" y="380880"/>
          <a:ext cx="1122480" cy="14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80880"/>
                    <a:ext cx="1122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102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-228600" y="0"/>
            <a:ext cx="1309680" cy="16765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4" descr="C:\Documents and Settings\ChrisM\Desktop\buoy 45 2.jpg"/>
          <p:cNvPicPr/>
          <p:nvPr/>
        </p:nvPicPr>
        <p:blipFill>
          <a:blip r:embed="rId3"/>
          <a:stretch/>
        </p:blipFill>
        <p:spPr>
          <a:xfrm>
            <a:off x="1143000" y="1371600"/>
            <a:ext cx="1171440" cy="1440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4" descr="C:\Documents and Settings\ChrisM\Desktop\buoy 5.jpg"/>
          <p:cNvPicPr/>
          <p:nvPr/>
        </p:nvPicPr>
        <p:blipFill>
          <a:blip r:embed="rId3"/>
          <a:stretch/>
        </p:blipFill>
        <p:spPr>
          <a:xfrm>
            <a:off x="1523880" y="2971800"/>
            <a:ext cx="1611360" cy="134604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2819520" y="419112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4" descr="C:\Documents and Settings\ChrisM\Desktop\buoy 4.jpg"/>
          <p:cNvPicPr/>
          <p:nvPr/>
        </p:nvPicPr>
        <p:blipFill>
          <a:blip r:embed="rId3"/>
          <a:stretch/>
        </p:blipFill>
        <p:spPr>
          <a:xfrm>
            <a:off x="3505320" y="3048120"/>
            <a:ext cx="1620720" cy="119988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C:\Documents and Settings\ChrisM\Desktop\buoy 4.jpg"/>
          <p:cNvPicPr/>
          <p:nvPr/>
        </p:nvPicPr>
        <p:blipFill>
          <a:blip r:embed="rId3"/>
          <a:stretch/>
        </p:blipFill>
        <p:spPr>
          <a:xfrm>
            <a:off x="4267080" y="1752480"/>
            <a:ext cx="1621080" cy="120024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1:35:32Z</dcterms:created>
  <dc:creator>Alan Stewart</dc:creator>
  <dc:description/>
  <dc:language>en-US</dc:language>
  <cp:lastModifiedBy>Mike Hadley</cp:lastModifiedBy>
  <cp:lastPrinted>2003-12-11T15:09:21Z</cp:lastPrinted>
  <dcterms:modified xsi:type="dcterms:W3CDTF">2008-08-16T11:23:55Z</dcterms:modified>
  <cp:revision>58</cp:revision>
  <dc:subject/>
  <dc:title>AIS Presentation</dc:title>
</cp:coreProperties>
</file>