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DE0-A4AF-45BD-A7DC-5EE721AA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95CE-4024-4750-8A53-7241C13B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153-65A5-465D-8A07-DD094E21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7B52-33AC-4941-8D4C-CCE2EED9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55676-02DF-4BA4-A113-D0A7154B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1E641-9362-4733-B0B8-AD0422F4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3D5D2-3770-4346-BC27-032561AA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7BAEA-5E4A-4E3B-A718-098A4227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1C292-10D2-4D68-A5A1-485D7577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BE559-5987-4977-B44E-653F0BE2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DCCEF-647F-4C68-B3FE-F8ABE7DC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30A-9900-43D1-8198-F8F300C0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B6CB1-282E-4BEF-BFCB-D6044330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D3005-1CE6-4F4B-A5F1-DC41BCC7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E2B64-2BE4-480A-AF0F-FD710DD5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2F7D9-B271-43A4-85E0-DE2D06BD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7074C-E77F-42C4-B086-A1FCAE2D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DBE-AA9D-42FA-BCE2-6D581F1F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2E8-7200-4B2F-9C50-4C1A8E57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AEB-D91A-48CF-9ACB-38045ED7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DE6-A928-4795-9304-2E405891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5B5-252C-41BF-8B28-73DCABCA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212-FC50-4C1F-B8C7-5C5A25BB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5ED-1124-4533-AF14-AB4D7ADE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B98F-5C2F-4C45-A0A3-55581CD9960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D80E-CBF9-4148-BAA7-E8DF55A8BDB9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ALA ANM 16 – Rapporteur Report 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Agenda item 5.4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Development of e-Navigation within AtoN Author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Gerry Br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Manager Aids to Navig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6856560" y="40464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-NAV10/7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10920" y="1773000"/>
            <a:ext cx="8064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ed for standards &amp; regu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e-navigation test b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ridge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r centr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discussion for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1915920"/>
            <a:ext cx="6624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Architecture – the shore-based perspec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 AtoN information standar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 developments in member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699320" cy="21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formation Paper on the draft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280" y="314172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is document establishes relevant principles for a shore-based system architecture harmonized for e-Navigation.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19280" y="47628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-Navigation - shipboard, shore-based and links in-between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403280" y="1916280"/>
            <a:ext cx="2720880" cy="2164680"/>
            <a:chOff x="1403280" y="1916280"/>
            <a:chExt cx="2720880" cy="2164680"/>
          </a:xfrm>
        </p:grpSpPr>
        <p:sp>
          <p:nvSpPr>
            <p:cNvPr id="92" name="Text Box 6"/>
            <p:cNvSpPr/>
            <p:nvPr/>
          </p:nvSpPr>
          <p:spPr>
            <a:xfrm>
              <a:off x="1403280" y="3253320"/>
              <a:ext cx="2720880" cy="8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93" name="Object 5"/>
            <p:cNvGraphicFramePr/>
            <p:nvPr/>
          </p:nvGraphicFramePr>
          <p:xfrm>
            <a:off x="1735560" y="1916280"/>
            <a:ext cx="1588320" cy="142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5560" y="1916280"/>
                      <a:ext cx="1588320" cy="142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Oval 9"/>
          <p:cNvSpPr/>
          <p:nvPr/>
        </p:nvSpPr>
        <p:spPr>
          <a:xfrm>
            <a:off x="5940360" y="1773360"/>
            <a:ext cx="1989360" cy="1989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Object 10"/>
          <p:cNvGraphicFramePr/>
          <p:nvPr/>
        </p:nvGraphicFramePr>
        <p:xfrm>
          <a:off x="6227640" y="1916280"/>
          <a:ext cx="1455840" cy="164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7640" y="191628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2"/>
          <p:cNvSpPr/>
          <p:nvPr/>
        </p:nvSpPr>
        <p:spPr>
          <a:xfrm>
            <a:off x="4356000" y="184464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3995640" y="1989000"/>
          <a:ext cx="1352520" cy="1197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5640" y="198900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3"/>
          <p:cNvSpPr/>
          <p:nvPr/>
        </p:nvSpPr>
        <p:spPr>
          <a:xfrm>
            <a:off x="125892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79600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verarching e-Navigation architecture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611280" y="1413000"/>
          <a:ext cx="7956360" cy="52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95636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he e-Navigation architecture with a focus on the shore-side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HO GI Registry, including the IALA do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Current and planned e-Navigation developments by IALA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777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ustralia has established an e-Navigation consultation grou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 2010-11, the Canadian Coast Guard prepared an e-Navigation vision/strategy with input from industry stakeholders (still a dra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reland are well advanced on AIS with 19 buoys and 10 lighthouses fitted - will roll out a total of 64 AIS AtoN in the next 2 yea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Norwegian Branch of the Nautical Institute held a seminar October 2010 – Lee Alexander was a key presenter and emphasised the need for mariners too define us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Thanks for your atten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Mike Hadley</cp:lastModifiedBy>
  <dcterms:modified xsi:type="dcterms:W3CDTF">2011-06-17T08:08:33Z</dcterms:modified>
  <cp:revision>22</cp:revision>
  <dc:subject/>
  <dc:title>Slide 1</dc:title>
</cp:coreProperties>
</file>