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1CC-3EA6-4352-9A76-3BF8524F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6EC-E32C-4797-85EC-49B90101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F7A-F5AC-422E-B461-760C918D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0E6-6C81-4D2D-8A22-1896C007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35A-4A10-4412-A4AC-B3D6F6D2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702-9615-47E8-B03B-B2C4FAB7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B9A-08E8-4477-8D80-7B624F30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C26-9021-4AB7-84B0-C70285FF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EC1-737C-4C67-9A09-9D6DDA94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CDF-B270-4CD6-87CB-48487B4C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75C-7970-4157-B65E-C5EB5092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960-6620-497D-A3B8-A8AAF6C4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0B9C-C926-4C4B-8DCE-DB5EA70E0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2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5589720"/>
            <a:ext cx="1439640" cy="431640"/>
          </a:xfrm>
          <a:prstGeom prst="wedgeRectCallout">
            <a:avLst>
              <a:gd name="adj1" fmla="val 31699"/>
              <a:gd name="adj2" fmla="val -302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 “edge” (new lighthouse requi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805360"/>
            <a:ext cx="1295640" cy="432000"/>
          </a:xfrm>
          <a:prstGeom prst="wedgeRectCallout">
            <a:avLst>
              <a:gd name="adj1" fmla="val -141546"/>
              <a:gd name="adj2" fmla="val -100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I (existing lighthous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7:09:02Z</dcterms:created>
  <dc:creator>alialios</dc:creator>
  <dc:description/>
  <dc:language>en-US</dc:language>
  <cp:lastModifiedBy>alialios</cp:lastModifiedBy>
  <dcterms:modified xsi:type="dcterms:W3CDTF">2007-03-26T07:09:58Z</dcterms:modified>
  <cp:revision>2</cp:revision>
  <dc:subject/>
  <dc:title>Slide 1</dc:title>
</cp:coreProperties>
</file>