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3F16-6601-464F-904E-F327BBF1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ABEB-099B-4654-AD4C-E91B5BF9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DA18-A9A9-4F54-A857-BE81BA7D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6E9A-7A95-4D12-B199-3A93A209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D5B96-FCF0-481A-BD36-3F3FEE91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1A3FC-7E55-4FF7-A387-7D653614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26006-3B45-457E-A3FA-3F57D8D0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357E7-79A8-4BA6-9F6C-D3F067BD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AF699-71D8-4A94-8576-1863FCF1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2AD0C-E085-4C93-B3E4-B43488DB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F60B5-41CF-4C7F-874D-26DEE55E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FE74-AABC-400B-9D2F-08FE8A88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F2D03-C4FA-440B-902B-3F5C168B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5B967-3991-4E56-9B2D-E0592BA3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858DD-B093-4797-9D9B-3DDA05F7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E82D1-A583-4FD3-A170-3CDAA4C5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0161F-5B6A-4BCE-8C0A-930C54A9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627F-3FA8-45A1-92BA-25004D4E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D2B0-4AB8-4787-8517-364F68F4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5C08-2AFE-4F28-A0EB-6DC30AEB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12C2-07D6-46FE-B61B-8482C6CF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341C-C40B-400D-9E60-42C6136C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50A6-60C6-420E-8036-DB55DF3C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280C-4B84-485A-832A-93074667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D68A-A863-4EF0-AEDC-271CBB1EF509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82B8-D648-467F-8EDB-5067A614D05C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IALA ANM 16 – Rapporteur Report </a:t>
            </a:r>
            <a:br>
              <a:rPr sz="3200"/>
            </a:b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Agenda item 5.4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Development of e-Navigation within AtoN Author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Gerry Br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Manager Aids to Navigation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Australian maritime safety Authorit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5867280" y="404640"/>
            <a:ext cx="250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NM17/8/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ormerly e-NAV10/5/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-Navigation Underway” Conference outc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10920" y="1773000"/>
            <a:ext cx="806436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-Navigation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ed for standards &amp; regul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Value of e-navigation test be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Bridge solu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User centr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Value of discussion for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Outline of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03280" y="1915920"/>
            <a:ext cx="6624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igation Architecture – the shore-based perspecti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oposed IMO Common Maritime Data Structure incl AtoN information standar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 developments in member count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igation Underway” Conference outco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699320" cy="216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nformation Paper on the draft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ALA Recommendation e-NAV 140 on the e-Navigation Architecture – the shore-based perspective (Ed 2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55280" y="3141720"/>
            <a:ext cx="7993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is document establishes relevant principles for a shore-based system architecture harmonized for e-Navigation.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619280" y="47628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-Navigation - shipboard, shore-based and links in-between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1403280" y="1916280"/>
            <a:ext cx="2720880" cy="2164680"/>
            <a:chOff x="1403280" y="1916280"/>
            <a:chExt cx="2720880" cy="2164680"/>
          </a:xfrm>
        </p:grpSpPr>
        <p:sp>
          <p:nvSpPr>
            <p:cNvPr id="92" name="Text Box 6"/>
            <p:cNvSpPr/>
            <p:nvPr/>
          </p:nvSpPr>
          <p:spPr>
            <a:xfrm>
              <a:off x="1403280" y="3253320"/>
              <a:ext cx="2720880" cy="8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aphicFrame>
          <p:nvGraphicFramePr>
            <p:cNvPr id="93" name="Object 5"/>
            <p:cNvGraphicFramePr/>
            <p:nvPr/>
          </p:nvGraphicFramePr>
          <p:xfrm>
            <a:off x="1735560" y="1916280"/>
            <a:ext cx="1588320" cy="142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35560" y="1916280"/>
                      <a:ext cx="1588320" cy="142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Oval 9"/>
          <p:cNvSpPr/>
          <p:nvPr/>
        </p:nvSpPr>
        <p:spPr>
          <a:xfrm>
            <a:off x="5940360" y="1773360"/>
            <a:ext cx="1989360" cy="1989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Object 10"/>
          <p:cNvGraphicFramePr/>
          <p:nvPr/>
        </p:nvGraphicFramePr>
        <p:xfrm>
          <a:off x="6227640" y="1916280"/>
          <a:ext cx="1455840" cy="164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27640" y="1916280"/>
                    <a:ext cx="145584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12"/>
          <p:cNvSpPr/>
          <p:nvPr/>
        </p:nvSpPr>
        <p:spPr>
          <a:xfrm>
            <a:off x="4356000" y="1844640"/>
            <a:ext cx="747720" cy="2008080"/>
          </a:xfrm>
          <a:prstGeom prst="rect">
            <a:avLst/>
          </a:prstGeom>
          <a:gradFill rotWithShape="0">
            <a:gsLst>
              <a:gs pos="0">
                <a:srgbClr val="aa3039"/>
              </a:gs>
              <a:gs pos="100000">
                <a:srgbClr val="f9432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9" name="Object 8"/>
          <p:cNvGraphicFramePr/>
          <p:nvPr/>
        </p:nvGraphicFramePr>
        <p:xfrm>
          <a:off x="3995640" y="1989000"/>
          <a:ext cx="1352520" cy="1197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0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95640" y="1989000"/>
                    <a:ext cx="13525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13"/>
          <p:cNvSpPr/>
          <p:nvPr/>
        </p:nvSpPr>
        <p:spPr>
          <a:xfrm>
            <a:off x="1258920" y="429264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onbo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5796000" y="429264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 </a:t>
            </a: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ashor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784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verarching e-Navigation architecture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14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Object 5"/>
          <p:cNvGraphicFramePr/>
          <p:nvPr/>
        </p:nvGraphicFramePr>
        <p:xfrm>
          <a:off x="611280" y="1413000"/>
          <a:ext cx="7956360" cy="52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956360" cy="52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The e-Navigation architecture with a focus on the shore-side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HO GI Registry, including the IALA dom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69780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Current and planned e-Navigation developments by IALA me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1773000"/>
            <a:ext cx="7777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ustralia has established an e-Navigation consultation grou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n 2010-11, the Canadian Coast Guard prepared an e-Navigation vision/strategy with input from industry stakeholders (still a draf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reland are well advanced on AIS with 19 buoys and 10 lighthouses fitted - will roll out a total of 64 AIS AtoN in the next 2 yea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Norwegian Branch of the Nautical Institute held a seminar October 2010 – Lee Alexander was a key presenter and emphasised the need for mariners too define user requir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Thanks for your atten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5:05:19Z</dcterms:created>
  <dc:creator>gpb</dc:creator>
  <dc:description/>
  <dc:language>en-US</dc:language>
  <cp:lastModifiedBy>Mike Hadley</cp:lastModifiedBy>
  <dcterms:modified xsi:type="dcterms:W3CDTF">2011-07-06T09:33:55Z</dcterms:modified>
  <cp:revision>23</cp:revision>
  <dc:subject/>
  <dc:title>Slide 1</dc:title>
</cp:coreProperties>
</file>