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4A0-513B-43A0-A441-288F0004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3F8-E283-4F97-B7A7-DC21F27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6C1-C5EA-47EB-BC67-C9957C34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F78-5406-4AC3-B19B-BF1D5EBE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3E7CB-278C-4AD3-A459-44FBEED3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53782-D50B-4203-88C9-A75450AD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53C0B-0FB9-4866-B528-3C1985F1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DD3FE-866E-4A75-9019-DC96E547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2AB92-5945-4049-B15A-B531B4F7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3EA90-30AF-416E-A500-37FA7734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32D17-AEF6-4D3D-81DD-9A07C01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351-D6DB-46EE-869D-72DF726D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D8E7F-F759-4F4D-8CEF-DF7745F9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82627-FF86-4D38-BFB6-A435660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8D6AA-0EEA-4C65-BAFE-18B87926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5DEA4-5E55-4725-968A-6A0F26F1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D2FE1-8A8E-42EF-8E68-39E3EB70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628-B65E-4935-BD78-FFA12198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48A-7073-41DB-A125-6447BBD1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F42-9FAF-4A0A-93EA-583F281B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2A5-2115-4AFC-ABEE-6BE8C1A7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D9A-8783-4C05-BF86-746F90A5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19F-523E-4025-B8A2-3EF9A466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33E-E228-49BC-80B4-3FDE313E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7BDE-4992-48CE-8719-573B173652C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3336-662B-409A-91F4-43FAD495FAEC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867280" y="404640"/>
            <a:ext cx="25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NM17/8/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ormerly e-NAV10/5/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7-06T09:33:55Z</dcterms:modified>
  <cp:revision>23</cp:revision>
  <dc:subject/>
  <dc:title>Slide 1</dc:title>
</cp:coreProperties>
</file>