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462C-34CC-4905-9201-A867DD565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192-972C-40D4-A604-3A71F835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063-080E-4B34-B857-2416F377A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5807-9577-4918-A97D-5054F1EE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A326-BE13-4EE3-B7F3-CCFBC275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6A28-BBAF-431E-A345-7D350898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4D8A-F7A9-47F7-800D-7A46B0A8D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400D-24AF-4AD2-BDEB-FB676AD8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DE97-4639-4DD6-B1CE-20867003C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21AA-B06C-4D47-B2C7-A1D4F3EC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C043-6673-4984-8B43-D26226F8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31C3-3301-4296-BEB9-1BE1E11C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39675-EE1B-4C71-852B-0F292308B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838080"/>
            <a:ext cx="8763120" cy="33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ALA FRA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ITIME BUOYAGE SYSTEM &amp; OTHER AIDS TO NAVI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v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ALA Recommend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ALA Guideli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80880" y="457200"/>
            <a:ext cx="8382240" cy="57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 MAR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r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din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lated Dang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fe Water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al Ma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Dang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w Danger and Wreck Marking Buo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Mark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**NEW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ight Ho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or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ading Ligh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jor Floating A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ids of Non-Lateral Signific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57800" y="1066680"/>
            <a:ext cx="762120" cy="2895840"/>
          </a:xfrm>
          <a:custGeom>
            <a:avLst/>
            <a:gdLst>
              <a:gd name="textAreaLeft" fmla="*/ 0 w 762120"/>
              <a:gd name="textAreaRight" fmla="*/ 275040 w 762120"/>
              <a:gd name="textAreaTop" fmla="*/ 75240 h 2895840"/>
              <a:gd name="textAreaBottom" fmla="*/ 28206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2178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72200" y="4235400"/>
            <a:ext cx="259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her AT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4191120"/>
            <a:ext cx="853452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6T09:34:05Z</dcterms:created>
  <dc:creator>PWN</dc:creator>
  <dc:description/>
  <dc:language>en-US</dc:language>
  <cp:lastModifiedBy>PWN</cp:lastModifiedBy>
  <dcterms:modified xsi:type="dcterms:W3CDTF">2008-10-16T11:59:12Z</dcterms:modified>
  <cp:revision>2</cp:revision>
  <dc:subject/>
  <dc:title>Slide 1</dc:title>
</cp:coreProperties>
</file>