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D5A-52FA-407B-BE8A-C8C1F775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3C48-BDCA-45A6-BC30-2E693C25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B30A-515A-4139-9B19-6C012D9C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736-A1F0-43B3-886C-4A802ACC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2A92-60F1-45EE-AD50-A8A58D50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16FE-41BC-49C7-99C7-B79E3A8C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437-D10D-4335-BD02-FE5A0484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DFB2-CC2F-49AC-93AA-EFD9CBE2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97C-BFE3-4AB4-A796-20DA3FDF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AF15-6281-4D7E-974A-6B488257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A904-5D12-4898-AA60-4623B8D5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E02E-C27F-4CC8-98B5-7866C7DC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5F08-E3D7-46D6-B40F-E5836CF4A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11280" y="189000"/>
            <a:ext cx="7705800" cy="6335640"/>
            <a:chOff x="611280" y="189000"/>
            <a:chExt cx="7705800" cy="6335640"/>
          </a:xfrm>
        </p:grpSpPr>
        <p:grpSp>
          <p:nvGrpSpPr>
            <p:cNvPr id="42" name=""/>
            <p:cNvGrpSpPr/>
            <p:nvPr/>
          </p:nvGrpSpPr>
          <p:grpSpPr>
            <a:xfrm>
              <a:off x="611280" y="189000"/>
              <a:ext cx="7705800" cy="6335640"/>
              <a:chOff x="611280" y="189000"/>
              <a:chExt cx="7705800" cy="6335640"/>
            </a:xfrm>
          </p:grpSpPr>
          <p:sp>
            <p:nvSpPr>
              <p:cNvPr id="43" name=""/>
              <p:cNvSpPr/>
              <p:nvPr/>
            </p:nvSpPr>
            <p:spPr>
              <a:xfrm>
                <a:off x="684360" y="5516640"/>
                <a:ext cx="7632720" cy="1008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ims of VT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11280" y="189000"/>
                <a:ext cx="7559640" cy="4535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932360" y="3932280"/>
                <a:ext cx="144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506120" y="4221000"/>
                <a:ext cx="927360" cy="337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i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32360" y="45799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55640" y="3357720"/>
                <a:ext cx="1152360" cy="57600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908000" y="1484280"/>
                <a:ext cx="3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350160" y="189000"/>
                <a:ext cx="188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TM framewor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268360" y="1339920"/>
                <a:ext cx="0" cy="230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268360" y="1339920"/>
                <a:ext cx="417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708360" y="1341360"/>
                <a:ext cx="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427280" y="4797360"/>
                <a:ext cx="962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viti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556000" y="3932280"/>
                <a:ext cx="360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55640" y="5589720"/>
                <a:ext cx="187344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afe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292720" y="5229360"/>
                <a:ext cx="144360" cy="28872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627280" y="5589720"/>
                <a:ext cx="187344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curit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00720" y="5589720"/>
                <a:ext cx="187308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fficienc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372360" y="5589720"/>
                <a:ext cx="187308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rotection o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rine environ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773440" y="4226040"/>
                <a:ext cx="1072440" cy="337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easur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919240" y="4797360"/>
                <a:ext cx="74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ffort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76720" y="3932280"/>
                <a:ext cx="144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276720" y="457992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443640" y="1339920"/>
                <a:ext cx="0" cy="237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908000" y="3645000"/>
                <a:ext cx="3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908000" y="2637000"/>
                <a:ext cx="3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987640" y="119700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84720" y="119700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796000" y="119700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6443640" y="1484280"/>
                <a:ext cx="43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6443640" y="2492280"/>
                <a:ext cx="43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6443640" y="3716280"/>
                <a:ext cx="43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716360" y="3716280"/>
                <a:ext cx="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916360" y="1555920"/>
                <a:ext cx="1511280" cy="865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276720" y="1987560"/>
                <a:ext cx="1511280" cy="865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635280" y="2421000"/>
                <a:ext cx="1511280" cy="865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995640" y="2852640"/>
                <a:ext cx="1511280" cy="865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619280" y="5229360"/>
                <a:ext cx="144360" cy="28872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564000" y="5229360"/>
                <a:ext cx="144360" cy="28872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164360" y="5229360"/>
                <a:ext cx="144360" cy="28872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692360" y="5229360"/>
                <a:ext cx="554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276720" y="508464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32360" y="508464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708360" y="620640"/>
                <a:ext cx="115272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411280" y="620640"/>
                <a:ext cx="115272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55640" y="119700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55640" y="234936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77080" y="342900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219640" y="620640"/>
                <a:ext cx="115272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77080" y="220500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77080" y="119700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11600" y="2421000"/>
                <a:ext cx="132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ran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351240" y="1989000"/>
                <a:ext cx="132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ran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990880" y="1557360"/>
                <a:ext cx="132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ran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070520" y="2924280"/>
                <a:ext cx="132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ran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164720" y="189000"/>
              <a:ext cx="99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© IALA VTS/WG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68360" y="404640"/>
            <a:ext cx="8569800" cy="5913720"/>
            <a:chOff x="468360" y="404640"/>
            <a:chExt cx="8569800" cy="5913720"/>
          </a:xfrm>
        </p:grpSpPr>
        <p:sp>
          <p:nvSpPr>
            <p:cNvPr id="99" name=""/>
            <p:cNvSpPr/>
            <p:nvPr/>
          </p:nvSpPr>
          <p:spPr>
            <a:xfrm>
              <a:off x="468360" y="404640"/>
              <a:ext cx="8350200" cy="324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26920" y="1341360"/>
              <a:ext cx="2232360" cy="2086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ips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kehol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64000" y="1341360"/>
              <a:ext cx="2303280" cy="20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oresid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kehol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86160" y="6206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T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8360" y="3716280"/>
              <a:ext cx="8350200" cy="144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-Navig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72360" y="1341360"/>
              <a:ext cx="2232000" cy="20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oresid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kehol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45440" y="551664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arran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059280" y="2133360"/>
              <a:ext cx="504360" cy="431640"/>
              <a:chOff x="3059280" y="2133360"/>
              <a:chExt cx="504360" cy="431640"/>
            </a:xfrm>
          </p:grpSpPr>
          <p:sp>
            <p:nvSpPr>
              <p:cNvPr id="107" name=""/>
              <p:cNvSpPr/>
              <p:nvPr/>
            </p:nvSpPr>
            <p:spPr>
              <a:xfrm rot="16200000">
                <a:off x="3095640" y="2097000"/>
                <a:ext cx="431640" cy="504360"/>
              </a:xfrm>
              <a:prstGeom prst="upDownArrow">
                <a:avLst>
                  <a:gd name="adj1" fmla="val 50000"/>
                  <a:gd name="adj2" fmla="val 23261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6200000">
                <a:off x="3239280" y="2096280"/>
                <a:ext cx="144000" cy="504360"/>
              </a:xfrm>
              <a:prstGeom prst="upDownArrow">
                <a:avLst>
                  <a:gd name="adj1" fmla="val 50000"/>
                  <a:gd name="adj2" fmla="val 69726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867280" y="2133360"/>
              <a:ext cx="504720" cy="431640"/>
              <a:chOff x="5867280" y="2133360"/>
              <a:chExt cx="504720" cy="431640"/>
            </a:xfrm>
          </p:grpSpPr>
          <p:sp>
            <p:nvSpPr>
              <p:cNvPr id="110" name=""/>
              <p:cNvSpPr/>
              <p:nvPr/>
            </p:nvSpPr>
            <p:spPr>
              <a:xfrm rot="16200000">
                <a:off x="5903640" y="2096640"/>
                <a:ext cx="431640" cy="504720"/>
              </a:xfrm>
              <a:prstGeom prst="upDownArrow">
                <a:avLst>
                  <a:gd name="adj1" fmla="val 50000"/>
                  <a:gd name="adj2" fmla="val 23278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6200000">
                <a:off x="6047640" y="2096280"/>
                <a:ext cx="144000" cy="504720"/>
              </a:xfrm>
              <a:prstGeom prst="upDownArrow">
                <a:avLst>
                  <a:gd name="adj1" fmla="val 50000"/>
                  <a:gd name="adj2" fmla="val 69775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 rot="16200000">
              <a:off x="575280" y="5480640"/>
              <a:ext cx="432000" cy="3603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698400" y="5933880"/>
              <a:ext cx="185760" cy="360360"/>
            </a:xfrm>
            <a:prstGeom prst="upDownArrow">
              <a:avLst>
                <a:gd name="adj1" fmla="val 50000"/>
                <a:gd name="adj2" fmla="val 3861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45800" y="5950080"/>
              <a:ext cx="198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measure/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79640" y="3429000"/>
              <a:ext cx="504720" cy="358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43280" y="3429000"/>
              <a:ext cx="505080" cy="358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80360" y="3429000"/>
              <a:ext cx="504720" cy="358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92360" y="5445000"/>
              <a:ext cx="505080" cy="358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28680" y="5516640"/>
              <a:ext cx="51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support VTM through information 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5640" y="3787920"/>
              <a:ext cx="7848720" cy="86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0000" y="4005360"/>
              <a:ext cx="1584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d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11280" y="4221000"/>
              <a:ext cx="29527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ormation management proces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19640" y="4005360"/>
              <a:ext cx="1224000" cy="28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00720" y="4221000"/>
              <a:ext cx="208908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ing instru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47640" y="3429000"/>
              <a:ext cx="4334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11640" y="3429000"/>
              <a:ext cx="4334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48360" y="3429000"/>
              <a:ext cx="4334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92360" y="5950080"/>
              <a:ext cx="4334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28320" y="5877000"/>
              <a:ext cx="41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input from stakeholders to allow 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7812360" y="404640"/>
            <a:ext cx="99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IALA VTS/WG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755640" y="189000"/>
            <a:ext cx="8064360" cy="6408720"/>
            <a:chOff x="755640" y="189000"/>
            <a:chExt cx="8064360" cy="6408720"/>
          </a:xfrm>
        </p:grpSpPr>
        <p:grpSp>
          <p:nvGrpSpPr>
            <p:cNvPr id="132" name=""/>
            <p:cNvGrpSpPr/>
            <p:nvPr/>
          </p:nvGrpSpPr>
          <p:grpSpPr>
            <a:xfrm>
              <a:off x="755640" y="189000"/>
              <a:ext cx="8064360" cy="6408720"/>
              <a:chOff x="755640" y="189000"/>
              <a:chExt cx="8064360" cy="6408720"/>
            </a:xfrm>
          </p:grpSpPr>
          <p:sp>
            <p:nvSpPr>
              <p:cNvPr id="133" name=""/>
              <p:cNvSpPr/>
              <p:nvPr/>
            </p:nvSpPr>
            <p:spPr>
              <a:xfrm>
                <a:off x="755640" y="189000"/>
                <a:ext cx="2664000" cy="4464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258920" y="549360"/>
                <a:ext cx="180036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 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aritime doma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268360" y="98100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331640" y="177336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72000" y="16286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72000" y="29973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69440" y="2276640"/>
                <a:ext cx="41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69440" y="3573360"/>
                <a:ext cx="41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68360" y="234936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692360" y="2565360"/>
                <a:ext cx="1150920" cy="1150920"/>
              </a:xfrm>
              <a:prstGeom prst="flowChartDecis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850040" y="2924280"/>
                <a:ext cx="852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tribu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 VTM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1331640" y="314172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68360" y="3716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58920" y="4005360"/>
                <a:ext cx="180036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 pa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f VTM framew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970920" y="189000"/>
                <a:ext cx="2378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etermination of stakehold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059280" y="414972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3564000" y="765000"/>
                <a:ext cx="0" cy="338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708360" y="189000"/>
                <a:ext cx="5111640" cy="4464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372000" y="189000"/>
                <a:ext cx="241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tegorization of stakehold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140360" y="549360"/>
                <a:ext cx="180000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 pa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f VTM framew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12000" y="1125360"/>
                <a:ext cx="1512720" cy="432000"/>
              </a:xfrm>
              <a:prstGeom prst="flowChartPunchedCar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TM ai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12000" y="1628640"/>
                <a:ext cx="1512720" cy="432000"/>
              </a:xfrm>
              <a:prstGeom prst="flowChartPunchedCar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12000" y="2133720"/>
                <a:ext cx="1512720" cy="431640"/>
              </a:xfrm>
              <a:prstGeom prst="flowChartPunchedCar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ffor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12000" y="2637000"/>
                <a:ext cx="1512720" cy="431640"/>
              </a:xfrm>
              <a:prstGeom prst="flowChartPunchedCar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xtent of interac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32360" y="1268280"/>
                <a:ext cx="287280" cy="289080"/>
              </a:xfrm>
              <a:prstGeom prst="flowChartSummingJunct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32360" y="1773360"/>
                <a:ext cx="287280" cy="288720"/>
              </a:xfrm>
              <a:prstGeom prst="flowChartSummingJunct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32360" y="2276640"/>
                <a:ext cx="287280" cy="288720"/>
              </a:xfrm>
              <a:prstGeom prst="flowChartSummingJunct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32360" y="2781360"/>
                <a:ext cx="287280" cy="288720"/>
              </a:xfrm>
              <a:prstGeom prst="flowChartSummingJunct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5219280" y="141300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5219280" y="191628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5219280" y="242100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5219280" y="292428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076720" y="98100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76720" y="155736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076720" y="206064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076720" y="256536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427640" y="3357720"/>
                <a:ext cx="1295280" cy="1008000"/>
              </a:xfrm>
              <a:prstGeom prst="flowChartMultidocumen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076720" y="306864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012720" y="3357720"/>
                <a:ext cx="26146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tection of marine environ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fficienc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cur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5724000" y="350028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5579640" y="3716280"/>
                <a:ext cx="50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5508720" y="3860640"/>
                <a:ext cx="57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5435280" y="4076640"/>
                <a:ext cx="64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284720" y="3645000"/>
                <a:ext cx="1152360" cy="792000"/>
              </a:xfrm>
              <a:prstGeom prst="flowChartDocumen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xtent o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tribu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64000" y="76500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55640" y="4797360"/>
                <a:ext cx="8064360" cy="180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40360" y="5084640"/>
                <a:ext cx="1728720" cy="503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dentification o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asures and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140360" y="5877000"/>
                <a:ext cx="2017440" cy="503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dentification o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unctional requir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076720" y="558972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55280" y="4797360"/>
                <a:ext cx="2445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etermination of arrang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76720" y="4292640"/>
                <a:ext cx="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692360" y="1197000"/>
                <a:ext cx="1150920" cy="1152360"/>
              </a:xfrm>
              <a:prstGeom prst="flowChartDecis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05680" y="1413000"/>
                <a:ext cx="1078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erac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ith mariti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ffic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32000" y="5805360"/>
                <a:ext cx="2087640" cy="503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riteria and requir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or measures and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659640" y="5805360"/>
                <a:ext cx="1728720" cy="576360"/>
              </a:xfrm>
              <a:prstGeom prst="leftRightArrow">
                <a:avLst>
                  <a:gd name="adj1" fmla="val 50000"/>
                  <a:gd name="adj2" fmla="val 59709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rrange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156360" y="609300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03280" y="5084640"/>
                <a:ext cx="1944720" cy="5050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ser nee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411280" y="558972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19640" y="609300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3780000" y="5300280"/>
                <a:ext cx="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780000" y="530064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57440" y="476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81800" y="260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29080" y="4869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7812360" y="6381720"/>
              <a:ext cx="99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© IALA VTS/WG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0:30:31Z</dcterms:created>
  <dc:creator>WG4</dc:creator>
  <dc:description/>
  <dc:language>en-US</dc:language>
  <cp:lastModifiedBy>hbr</cp:lastModifiedBy>
  <dcterms:modified xsi:type="dcterms:W3CDTF">2009-03-05T16:05:22Z</dcterms:modified>
  <cp:revision>25</cp:revision>
  <dc:subject/>
  <dc:title>VTM concept</dc:title>
</cp:coreProperties>
</file>