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1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C6601F-1CD8-4F3C-9BDC-2B4CEBA19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7F8FC7-B58B-46CA-8DA9-89EDD2C37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81F058-AE46-40F9-8209-94DB379F0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F1DFE7-FEDB-4205-860E-19562B60F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5D42B8-97EF-47C3-8E2F-361807105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938055-3EC6-4D1B-9A14-5406ED929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5F28E3-F388-4A40-BE7F-DAB967AC1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E4347C-5388-45F8-A817-8C59F4418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55B5DA-3F15-4688-B3D5-0AA21488D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19B-AB3F-49D2-8340-F5BF6045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D7B-4747-44E7-AD46-03543ED9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499-24E1-4F48-B98E-682CF764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889-77DB-41AB-951F-D39B20F7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3A1D-15E2-41D6-B879-B3130039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53D-276F-49C5-A6FA-27B5141D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F80-F3D9-42B4-BCB8-749545FE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644-E074-41AD-9CBF-62641CA0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545-C1B8-4B27-AD94-80EE3EA3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5FB-72C8-4AB7-9344-2E76A18F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3B82-6E09-484F-9C54-4556ABA7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F1D-C90B-4B3B-831E-7EF563D5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-WBKGD1"/>
          <p:cNvPicPr/>
          <p:nvPr/>
        </p:nvPicPr>
        <p:blipFill>
          <a:blip r:embed="rId2"/>
          <a:srcRect l="0" t="0" r="0" b="197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5E3B-D752-468E-99B2-6BE13190B49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" name="Picture 9" descr="CGLOGO"/>
          <p:cNvPicPr/>
          <p:nvPr/>
        </p:nvPicPr>
        <p:blipFill>
          <a:blip r:embed="rId3"/>
          <a:stretch/>
        </p:blipFill>
        <p:spPr>
          <a:xfrm>
            <a:off x="7772400" y="14292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IALA%20logo1"/>
          <p:cNvPicPr/>
          <p:nvPr/>
        </p:nvPicPr>
        <p:blipFill>
          <a:blip r:embed="rId4"/>
          <a:srcRect l="0" t="1749" r="831" b="875"/>
          <a:stretch/>
        </p:blipFill>
        <p:spPr>
          <a:xfrm>
            <a:off x="0" y="0"/>
            <a:ext cx="102564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LA e-Navigation Committe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Cai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, IALA e-NAV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Nick 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 and Interfa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Hooijmans (Netherland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rle Hauge (Norway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on IALA Participation in IHO GI Registry (output/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Guideline on Procedures for the Mgmt of IALA Domains under GI Reg (output/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Guideline on Intro to Preparing S-100 Product Specs (output/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VTS on IVEF Product Specification (output/3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(output/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changes to Work Programme (output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PAP-Strategy on e-Navigation Strategy Items (output/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ANM on NAVGUIDE and draft revisions (output/2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for P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Plan based on Strategy input +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across IALA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 Registry Product Spe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 Spe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 concern over IALA’s role in e-N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s “on the bridge” – NAV58 d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ALA e-N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ing place for many proj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a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S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exchange of ideas and free / innovative thinking and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igation Suite; i.e., 7 Pi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NAV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304560"/>
            <a:ext cx="81532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9 registered attende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 countries, 4 Sister Organizations, 2 Obsv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 new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 out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 output documents for approval of Counc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draft Recommendations (+3 Annex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draft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revised MRCP and WWR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Council Information Pap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workshop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liaison notes to other organizations and IALA 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 Present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SEAS – N. 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rayal of AtoN Info on ENCs – D. Le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. Implementation of e-NAV – N. Riend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Suite – J-H Olt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of MSPs – J-H Olt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IS: Std Data Exchange – R. Hogendo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IALA adopt S-100 – J.Y. P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A – S. Benn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bed Portal – T. Pora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vious e-NAV WG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P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AIS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Architecture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Portra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6553080" y="3733920"/>
          <a:ext cx="16765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733920"/>
                    <a:ext cx="1676520" cy="11001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" name="Picture 4" descr="AIS"/>
          <p:cNvPicPr/>
          <p:nvPr/>
        </p:nvPicPr>
        <p:blipFill>
          <a:blip r:embed="rId3"/>
          <a:stretch/>
        </p:blipFill>
        <p:spPr>
          <a:xfrm>
            <a:off x="4419720" y="3429000"/>
            <a:ext cx="1523880" cy="111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1828800" cy="13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North Pacific heavy weather 02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11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Object 1"/>
          <p:cNvGraphicFramePr/>
          <p:nvPr/>
        </p:nvGraphicFramePr>
        <p:xfrm>
          <a:off x="4343400" y="5029200"/>
          <a:ext cx="2338560" cy="159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43400" y="5029200"/>
                    <a:ext cx="23385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3" descr=""/>
          <p:cNvPicPr/>
          <p:nvPr/>
        </p:nvPicPr>
        <p:blipFill>
          <a:blip r:embed="rId8"/>
          <a:stretch/>
        </p:blipFill>
        <p:spPr>
          <a:xfrm>
            <a:off x="6934320" y="5448240"/>
            <a:ext cx="2209680" cy="1409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vised e-NAV WG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rayal 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P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/4-AIS &amp;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Technical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 Data Modeling &amp; Interfa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7"/>
          <p:cNvGraphicFramePr/>
          <p:nvPr/>
        </p:nvGraphicFramePr>
        <p:xfrm>
          <a:off x="5715000" y="3200400"/>
          <a:ext cx="16765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200400"/>
                    <a:ext cx="16765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4" descr="AIS"/>
          <p:cNvPicPr/>
          <p:nvPr/>
        </p:nvPicPr>
        <p:blipFill>
          <a:blip r:embed="rId3"/>
          <a:stretch/>
        </p:blipFill>
        <p:spPr>
          <a:xfrm>
            <a:off x="4267080" y="3200400"/>
            <a:ext cx="1524240" cy="1119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1828800" cy="1306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North Pacific heavy weather 02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11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1"/>
          <p:cNvGraphicFramePr/>
          <p:nvPr/>
        </p:nvGraphicFramePr>
        <p:xfrm>
          <a:off x="4952880" y="4267080"/>
          <a:ext cx="1957680" cy="1338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52880" y="4267080"/>
                    <a:ext cx="19576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3" descr=""/>
          <p:cNvPicPr/>
          <p:nvPr/>
        </p:nvPicPr>
        <p:blipFill>
          <a:blip r:embed="rId8"/>
          <a:stretch/>
        </p:blipFill>
        <p:spPr>
          <a:xfrm>
            <a:off x="5410080" y="1600200"/>
            <a:ext cx="947880" cy="1143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Patraiko (Nautical Institut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hesh Alimchandani (Australi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IMO CG on e-NAV (output/4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d e-Navigation FAQs (output/2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Guideline on Harmonized Portrayal of e-Navigation Info (output/31, 3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EEP on e-NAV (output/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ANM on Risk Mgmt (output/8, 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North Pacific heavy weather 02"/>
          <p:cNvPicPr/>
          <p:nvPr/>
        </p:nvPicPr>
        <p:blipFill>
          <a:blip r:embed="rId1"/>
          <a:stretch/>
        </p:blipFill>
        <p:spPr>
          <a:xfrm>
            <a:off x="7315200" y="4648320"/>
            <a:ext cx="1606680" cy="109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NT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n Grant (UK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in Day (Ire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revised Recommendation R-129 on GNSS Vulnerability and Mitigation Measures (output/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ed WWR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EEP, WWA on WWA L2 Model Course Module 9 RNav (output/29, 29 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248520" y="5465880"/>
            <a:ext cx="289548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AIS"/>
          <p:cNvPicPr/>
          <p:nvPr/>
        </p:nvPicPr>
        <p:blipFill>
          <a:blip r:embed="rId1"/>
          <a:stretch/>
        </p:blipFill>
        <p:spPr>
          <a:xfrm>
            <a:off x="7238880" y="5451480"/>
            <a:ext cx="1905120" cy="146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S &amp; Co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6324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f Zetterberg (Swe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Kautz (USA) 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revised IALA Rec. A-124 with Appendices  (outputs/20-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. MRCP and Liaison note to ITU-R  (output/15, 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ITU WP5B on WRC 1.15 and 1.16 (output/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Rev. of Rec. ITU-R M.1371-4 and Liaison Note to ITU-R (output/18, 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7"/>
          <p:cNvGraphicFramePr/>
          <p:nvPr/>
        </p:nvGraphicFramePr>
        <p:xfrm>
          <a:off x="7238880" y="4191120"/>
          <a:ext cx="190512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191120"/>
                    <a:ext cx="190512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cal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-Hendrik Oltmann (German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Mueller (Tide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Information paper on the Architecture for the Provision of e-Navigation Services as seen from Ashore (output/2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"/>
          <p:cNvGraphicFramePr/>
          <p:nvPr/>
        </p:nvGraphicFramePr>
        <p:xfrm>
          <a:off x="5867280" y="4807080"/>
          <a:ext cx="315936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807080"/>
                    <a:ext cx="315936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5:53:10Z</dcterms:created>
  <dc:creator>nickw</dc:creator>
  <dc:description/>
  <dc:language>en-US</dc:language>
  <cp:lastModifiedBy>William R Cairns</cp:lastModifiedBy>
  <dcterms:modified xsi:type="dcterms:W3CDTF">2012-10-15T12:51:43Z</dcterms:modified>
  <cp:revision>117</cp:revision>
  <dc:subject/>
  <dc:title>PowerPoint Presentation</dc:title>
</cp:coreProperties>
</file>