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BA7-683A-452B-9DFB-3CFD2158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62A3-68D0-4B30-9FCF-6D0E6E08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B488-BA6F-46AE-BED3-E03C1A2B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CAF6-9047-4D47-815E-8B6CEFE2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6FD-128D-4161-A06F-2892701C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D0C-615C-42A0-BDD1-74C8B283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50C-992E-4CCD-86C7-D10AD0AF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F7A-8DF6-40D5-8E37-20187FA8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A587-8B86-4913-A190-74D874BA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ECA0-A703-470E-AA24-5D9D0F5C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D2F-8C04-40E4-9F96-EAE97054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2C4-A2A7-4CE3-AE81-7D29B3DE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DE69-441D-4D4D-B99E-72E7F23B79F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IALA Participation in IHO Regist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Presentation to PAP 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3 May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Arial"/>
                <a:ea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mmon Maritime Data Structure is a top-level requirement for e-navig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HO has established a GI Registry, governed by S-100 &amp; S-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MO NAV 57 agreed on IHO Registry as baseline for the collection, exchange, and distribution of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ALA Council 52 approved registration of IALA at IHO as a Submitting Organization &amp; domain own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ALA operational procedures in Guideline conform to IHO standard S-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Arial"/>
                <a:ea typeface="Arial"/>
              </a:rPr>
              <a:t>IHO Regi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197000" y="1357200"/>
            <a:ext cx="65898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Process in IA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S-100 flowchart"/>
          <p:cNvPicPr/>
          <p:nvPr/>
        </p:nvPicPr>
        <p:blipFill>
          <a:blip r:embed="rId1"/>
          <a:stretch/>
        </p:blipFill>
        <p:spPr>
          <a:xfrm>
            <a:off x="1714680" y="1285920"/>
            <a:ext cx="56433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Arial"/>
                <a:ea typeface="Arial"/>
              </a:rPr>
              <a:t>IALA Organizational Char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Macintosh HD:Users:Mike:Documents:A_Work:IALA:Committees:e-NAV Committee:e-NAV11 Mar12:Report inputs:IALA Org chart.jpg"/>
          <p:cNvPicPr/>
          <p:nvPr/>
        </p:nvPicPr>
        <p:blipFill>
          <a:blip r:embed="rId1"/>
          <a:stretch/>
        </p:blipFill>
        <p:spPr>
          <a:xfrm>
            <a:off x="777960" y="1000080"/>
            <a:ext cx="758808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IALA applic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elds: AtoNs, VTS, AIS, Risk Analysis, WWR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VEF – Technical WG in VTS 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oN Information – e-NAV lead, ANM &amp; EEP provide input (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IS – applications to be identif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isk Analysis – IWRA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WRN – applications to be identif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IHO Registry is the baseline for CM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-100 gives a framework for data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an accommodate IALA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ignificant impact on IALA,  but also bene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7:06:38Z</dcterms:created>
  <dc:creator>Nick Ward</dc:creator>
  <dc:description/>
  <dc:language>en-US</dc:language>
  <cp:lastModifiedBy>Nick Ward</cp:lastModifiedBy>
  <dcterms:modified xsi:type="dcterms:W3CDTF">2012-05-03T05:31:05Z</dcterms:modified>
  <cp:revision>5</cp:revision>
  <dc:subject/>
  <dc:title>IALA Participation in IHO Registry</dc:title>
</cp:coreProperties>
</file>