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51D12B-4829-457A-8997-3DF0C36F4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B625A3-E345-4E30-817B-6CB9290E3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585E5CF-9C35-46EE-9BE1-311FEA624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FC817E-AC05-4363-B99C-A094C4423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2BC2DC-EF5F-4C8F-87CC-6979D5243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1A2BE12-17E3-45DB-8BBC-0C582D143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8F5100-8881-4D06-BF77-FE2491918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08A017-11C6-4044-B39C-BB5C4FB11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6062296-2902-44C0-A13C-72D698ADA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B99B-AF08-4299-9821-99F01A57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CC6D-E301-4D32-A7CF-5801DE16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7DAE-613E-415C-95EA-2E4780EF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9231-12C3-47A4-A209-5656BD4E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A6A8-CC3E-4E11-9BDC-FDA794B5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FEDE-F73D-47A3-BC34-B196D020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1A22-4097-4058-88BF-F056E4FE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1C5-86FE-43FC-8FE3-440B8052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39CF-CBE3-43F6-AD87-1116C97C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F623-F9B3-4B65-8AEF-3D15CC6F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30C5-2518-4E84-8152-EDCCC2DC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87E4-4FC6-4BB1-84C4-8B2BF3FD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-WBKGD1"/>
          <p:cNvPicPr/>
          <p:nvPr/>
        </p:nvPicPr>
        <p:blipFill>
          <a:blip r:embed="rId2"/>
          <a:srcRect l="0" t="0" r="0" b="197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81A3-A16E-4755-9CEC-BC10CFDEA00B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" name="Picture 9" descr="CGLOGO"/>
          <p:cNvPicPr/>
          <p:nvPr/>
        </p:nvPicPr>
        <p:blipFill>
          <a:blip r:embed="rId3"/>
          <a:stretch/>
        </p:blipFill>
        <p:spPr>
          <a:xfrm>
            <a:off x="7772400" y="142920"/>
            <a:ext cx="1371600" cy="13143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IALA%20logo1"/>
          <p:cNvPicPr/>
          <p:nvPr/>
        </p:nvPicPr>
        <p:blipFill>
          <a:blip r:embed="rId4"/>
          <a:srcRect l="0" t="1749" r="831" b="875"/>
          <a:stretch/>
        </p:blipFill>
        <p:spPr>
          <a:xfrm>
            <a:off x="0" y="0"/>
            <a:ext cx="1025640" cy="15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ALA e-Navigation Committe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2514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Cai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, IALA e-NAV Committ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. Nick 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e Chai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2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20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ray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e Alexander (US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ji Fukuto (Japa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IHO on the development of Recommendations and Guidelines on e-Navigation Portrayal (output/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5943600" y="4816440"/>
            <a:ext cx="3200400" cy="2041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0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and Updated Work Programme (output/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 elements assig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task to manage the IALA domain in IHO S-99 and S-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for P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igation across IALA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y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ed in WG1 output to IMO; Recommend cl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ALA exceeding re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O concern over IALA’s role in e-NA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s and Portrayal “on the bridg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ALA Members / Sister Organizations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-Navigation succeed withou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-NAV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04 registered attende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3 new participants, 1 observ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9 Output papers includ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raft Guideline on Procedures for the Management of the IALA Domains under the IHO Registry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aison Notes to ANM, EEP, VTS on draft Product Specifications under S-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 other papers dealing with the IHO S-100 GI Regis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 Liaison Notes to ITU-R WP5B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aison Notes to IEC, IH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 draft Information Papers to IM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igation – a vision and its practical implementation - Andy Nor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 proposed shipboard architecture– Jan-Hendrik Olt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U/W, Testbed portal – Thomas Christensen (D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LA WWA – Stephen Benne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LA Participation in the IHO Registry – Nick 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ALA e-NAV WG Structu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 P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3-AIS 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4-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Architecture 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-Portray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S-100/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6553080" y="3733920"/>
          <a:ext cx="167652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3733920"/>
                    <a:ext cx="1676520" cy="11001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1" name="Picture 4" descr="AIS"/>
          <p:cNvPicPr/>
          <p:nvPr/>
        </p:nvPicPr>
        <p:blipFill>
          <a:blip r:embed="rId3"/>
          <a:stretch/>
        </p:blipFill>
        <p:spPr>
          <a:xfrm>
            <a:off x="4419720" y="3429000"/>
            <a:ext cx="1523880" cy="1119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5867280" y="2133720"/>
            <a:ext cx="1828800" cy="1306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North Pacific heavy weather 02"/>
          <p:cNvPicPr/>
          <p:nvPr/>
        </p:nvPicPr>
        <p:blipFill>
          <a:blip r:embed="rId5"/>
          <a:stretch/>
        </p:blipFill>
        <p:spPr>
          <a:xfrm>
            <a:off x="3886200" y="1600200"/>
            <a:ext cx="1676520" cy="114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Object 1"/>
          <p:cNvGraphicFramePr/>
          <p:nvPr/>
        </p:nvGraphicFramePr>
        <p:xfrm>
          <a:off x="4343400" y="5029200"/>
          <a:ext cx="2338560" cy="1598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Object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43400" y="5029200"/>
                    <a:ext cx="233856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3" descr=""/>
          <p:cNvPicPr/>
          <p:nvPr/>
        </p:nvPicPr>
        <p:blipFill>
          <a:blip r:embed="rId8"/>
          <a:stretch/>
        </p:blipFill>
        <p:spPr>
          <a:xfrm>
            <a:off x="6934320" y="5448240"/>
            <a:ext cx="2209680" cy="1409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Patraiko (Nautical Institut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ahesh Alimchandani (Australi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to IMO on e-NAV (output/1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ANM (output/16) outlining the e-NAV Committee’s plan for its review of the IALA NAVGU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North Pacific heavy weather 02"/>
          <p:cNvPicPr/>
          <p:nvPr/>
        </p:nvPicPr>
        <p:blipFill>
          <a:blip r:embed="rId1"/>
          <a:stretch/>
        </p:blipFill>
        <p:spPr>
          <a:xfrm>
            <a:off x="7315200" y="5607000"/>
            <a:ext cx="1828800" cy="12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NT W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an Grant (UK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in Day (Irelan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EEP on the proposed course content for a radionavigation module (e-NAV11/output/18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O NAV58 INF paper (output/17) on Maritime Integrated P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181480" y="4952880"/>
            <a:ext cx="39625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AIS"/>
          <p:cNvPicPr/>
          <p:nvPr/>
        </p:nvPicPr>
        <p:blipFill>
          <a:blip r:embed="rId1"/>
          <a:stretch/>
        </p:blipFill>
        <p:spPr>
          <a:xfrm>
            <a:off x="6400800" y="5451480"/>
            <a:ext cx="2743200" cy="1406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S Technic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f Zetterberg (Swed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rge Arroyo (USA) 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 to PAP and other Committees on the Plan for AIS and VDE (output/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unications W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RelationshipMode_revised"/>
          <p:cNvPicPr/>
          <p:nvPr/>
        </p:nvPicPr>
        <p:blipFill>
          <a:blip r:embed="rId1"/>
          <a:stretch/>
        </p:blipFill>
        <p:spPr>
          <a:xfrm>
            <a:off x="6705720" y="5089680"/>
            <a:ext cx="2438280" cy="1768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Kautz (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er Blackhurst (INMARSAT)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s to ITU-R WP5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Proposed changes to Recommendations ITU-R M.824-3 and ITU-R M.1176  (output/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Plan for Future VHF Data Communications (output/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timing of submissions of changes to ITU-R M1371-4 (output/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 Technic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1" marL="594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-Hendrik Oltmann (German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l Mueller (Tideland)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IALA Guideline on Procedures for the Management of the IALA Domains under the IHO Registry (output/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paper on Draf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deline (output/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IHO on Applications to participate in the IHO Registry (output/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Paper on IALA Participation in IHO Registry (output/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1"/>
          <p:cNvGraphicFramePr/>
          <p:nvPr/>
        </p:nvGraphicFramePr>
        <p:xfrm>
          <a:off x="7031160" y="2743200"/>
          <a:ext cx="211284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1160" y="2743200"/>
                    <a:ext cx="21128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5:53:10Z</dcterms:created>
  <dc:creator>nickw</dc:creator>
  <dc:description/>
  <dc:language>en-US</dc:language>
  <cp:lastModifiedBy>William R Cairns</cp:lastModifiedBy>
  <dcterms:modified xsi:type="dcterms:W3CDTF">2012-04-16T17:13:14Z</dcterms:modified>
  <cp:revision>114</cp:revision>
  <dc:subject/>
  <dc:title>PowerPoint Presentation</dc:title>
</cp:coreProperties>
</file>