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B3C6-C4FE-40ED-A0F9-AC55A592D5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B518-22E8-4108-96D6-EC8C20A419B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8A5D-9A66-40BF-8B5E-D5EC169944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481E-D77D-45F3-8712-D4C63C3B98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13C6-A4A2-4C0B-A6C9-9D54F2B4FA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D949-16D5-4E68-B813-6CBD196A9E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7E37-69E4-41F3-9C41-9CE27620DE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F691-78B4-4244-9FC5-A3E15A4EFF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AEEC-EE67-47D9-8D89-611EED3D63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488D-F6CE-4D5B-8612-AD8A25C849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35C9-2DC8-47DF-8F36-3600921A8C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BA35-518C-4701-B4C2-71B3F37E85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4D5F-DA7B-4157-990A-5608FB1186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343-81D0-4C85-8333-D0D718D1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1F0-B8E5-45AD-BD95-8DD443B9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B70-22F0-4124-B7EB-74AE2DD2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840-2FF2-4B32-BAAF-3EEB78AD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6F3-B0CF-4F4D-BB51-B9A1EE42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E53-07EA-4345-AD1B-B404D529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BE4-55F6-40D0-9CEA-A22800A2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88C-5A98-4094-B14D-C0C408F3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9E4-4044-40AA-8846-37F0121F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796-821A-4BCE-B9EF-600C473E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CC5-203A-47F2-8AA4-C7413D85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316-66ED-47B4-AFA1-C7B79E1E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2F22-1750-4B95-86C2-2AF9C5F9AD4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Imagen" descr="carrusel_palacio1.jpg"/>
          <p:cNvPicPr/>
          <p:nvPr/>
        </p:nvPicPr>
        <p:blipFill>
          <a:blip r:embed="rId1"/>
          <a:stretch/>
        </p:blipFill>
        <p:spPr>
          <a:xfrm>
            <a:off x="-65160" y="3429000"/>
            <a:ext cx="920916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6 Imagen" descr="torre-de-hercules-la-coruna-b.jpg"/>
          <p:cNvPicPr/>
          <p:nvPr/>
        </p:nvPicPr>
        <p:blipFill>
          <a:blip r:embed="rId2"/>
          <a:srcRect l="38283" t="11789" r="32425" b="17678"/>
          <a:stretch/>
        </p:blipFill>
        <p:spPr>
          <a:xfrm>
            <a:off x="4946760" y="0"/>
            <a:ext cx="4197240" cy="671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Compaq_Propietario.JUAN\Escritorio\logo_iala_210.gif"/>
          <p:cNvPicPr/>
          <p:nvPr/>
        </p:nvPicPr>
        <p:blipFill>
          <a:blip r:embed="rId3"/>
          <a:stretch/>
        </p:blipFill>
        <p:spPr>
          <a:xfrm>
            <a:off x="4357800" y="214200"/>
            <a:ext cx="4158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Compaq_Propietario.JUAN\Escritorio\LOGOS PUERTOS 2010\LOGO PDE 2010 Fondo Blanco.jpg"/>
          <p:cNvPicPr/>
          <p:nvPr/>
        </p:nvPicPr>
        <p:blipFill>
          <a:blip r:embed="rId4"/>
          <a:stretch/>
        </p:blipFill>
        <p:spPr>
          <a:xfrm>
            <a:off x="0" y="142920"/>
            <a:ext cx="3000240" cy="584280"/>
          </a:xfrm>
          <a:prstGeom prst="rect">
            <a:avLst/>
          </a:prstGeom>
          <a:ln w="0">
            <a:noFill/>
          </a:ln>
        </p:spPr>
      </p:pic>
      <p:sp>
        <p:nvSpPr>
          <p:cNvPr id="52" name="5 CuadroTexto"/>
          <p:cNvSpPr/>
          <p:nvPr/>
        </p:nvSpPr>
        <p:spPr>
          <a:xfrm>
            <a:off x="0" y="1341360"/>
            <a:ext cx="489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1" lang="es-ES" sz="3200" spc="-1" strike="noStrike" u="sng" baseline="30000">
                <a:solidFill>
                  <a:srgbClr val="cc0000"/>
                </a:solidFill>
                <a:uFillTx/>
                <a:latin typeface="Comic Sans MS"/>
              </a:rPr>
              <a:t>rd</a:t>
            </a: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 Conferenc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IALA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90000" y="29973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Preliminary Conference Tim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50920" y="0"/>
          <a:ext cx="8713800" cy="6211800"/>
        </p:xfrm>
        <a:graphic>
          <a:graphicData uri="http://schemas.openxmlformats.org/drawingml/2006/table">
            <a:tbl>
              <a:tblPr/>
              <a:tblGrid>
                <a:gridCol w="2178000"/>
                <a:gridCol w="4735440"/>
                <a:gridCol w="936720"/>
                <a:gridCol w="863640"/>
              </a:tblGrid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y (May 20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C Exhib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rning –Afftern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 -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tion / IALA Coun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lcome re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- 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Assembly and Conference/IALA report and opening IMC  Exhibition / Conference Di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 – 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1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Assemble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 – 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2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C Technical session (5 comm.) and  IMC Eve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3   (4 sessions; 20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-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4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practices session (10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-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ions and recommendations/ General Assemble 2/ Presentations next IALA and VTS / Council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la di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62"/>
          <p:cNvSpPr/>
          <p:nvPr/>
        </p:nvSpPr>
        <p:spPr>
          <a:xfrm>
            <a:off x="368784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4360" y="220500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We suggest that the themes and session titles should be defined by the PAP group, representing each IALA Committee, by Dec.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5)  Suggest names of sessions chair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4360" y="170028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We suggest that the names of the sessions chairpersons should be proposed by the Committee-chair and aproved by the PAP group, by Dec.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Puertos del Estado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ay propose some names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for chairper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Draft First Call for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836640"/>
            <a:ext cx="889308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chedule for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irst </a:t>
            </a:r>
            <a:r>
              <a:rPr b="1" lang="en-GB" sz="2800" spc="-1" strike="noStrike" u="sng">
                <a:solidFill>
                  <a:srgbClr val="1f497d"/>
                </a:solidFill>
                <a:uFillTx/>
                <a:latin typeface="Comic Sans MS"/>
              </a:rPr>
              <a:t>general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announcement for the Conferece, preliminary schedule and milestone, in the next IALA Bulletin-Dec. 2011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(we are sending material to the Bulletin editor-¡¡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IMPORTANT !!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irst detailed announcement with hotels, program (conference and accompanying), Call for Papers and prices: Dec.-2012 (advanced in Committees next year and VTS Symposi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bstract papers reception: 30 Jun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bstract selection: 30 Sep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apers reception: 15 Dec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Draft First Call for Paper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88320" y="1100160"/>
            <a:ext cx="80294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chedule for Goo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ubmission of templates before 30 Sep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election of templates before 15 Dec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70440" y="3645000"/>
            <a:ext cx="864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Communication from the IMC on R+D+I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(Same schedule as Conference pap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but selection to be made by I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0" y="260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Conference 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2. Conference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3. Conference Director / Organi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9 CuadroTexto"/>
          <p:cNvSpPr/>
          <p:nvPr/>
        </p:nvSpPr>
        <p:spPr>
          <a:xfrm>
            <a:off x="1188720" y="2349360"/>
            <a:ext cx="549036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A CORUÑA –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onference Center:  PALEX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0 CuadroTexto"/>
          <p:cNvSpPr/>
          <p:nvPr/>
        </p:nvSpPr>
        <p:spPr>
          <a:xfrm>
            <a:off x="1359000" y="3860640"/>
            <a:ext cx="3153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25 – 31 MAY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0 CuadroTexto"/>
          <p:cNvSpPr/>
          <p:nvPr/>
        </p:nvSpPr>
        <p:spPr>
          <a:xfrm>
            <a:off x="1093680" y="4869000"/>
            <a:ext cx="80503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Conference Director from Puertos d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Mr. Manuel Góme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Deputy Director of Internationa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Compaq_Propietario.JUAN\Escritorio\51 CONSEJO IALA\IALA-2014\coruña google.jpg"/>
          <p:cNvPicPr/>
          <p:nvPr/>
        </p:nvPicPr>
        <p:blipFill>
          <a:blip r:embed="rId3"/>
          <a:stretch/>
        </p:blipFill>
        <p:spPr>
          <a:xfrm>
            <a:off x="179280" y="0"/>
            <a:ext cx="8677440" cy="6249960"/>
          </a:xfrm>
          <a:prstGeom prst="rect">
            <a:avLst/>
          </a:prstGeom>
          <a:ln w="0">
            <a:noFill/>
          </a:ln>
        </p:spPr>
      </p:pic>
      <p:sp>
        <p:nvSpPr>
          <p:cNvPr id="128" name="4 Llamada ovalada"/>
          <p:cNvSpPr/>
          <p:nvPr/>
        </p:nvSpPr>
        <p:spPr>
          <a:xfrm>
            <a:off x="2627280" y="1125360"/>
            <a:ext cx="1563840" cy="684360"/>
          </a:xfrm>
          <a:prstGeom prst="wedgeEllipseCallout">
            <a:avLst>
              <a:gd name="adj1" fmla="val 123518"/>
              <a:gd name="adj2" fmla="val 20975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7 Rectángulo"/>
          <p:cNvSpPr/>
          <p:nvPr/>
        </p:nvSpPr>
        <p:spPr>
          <a:xfrm>
            <a:off x="5292720" y="2852640"/>
            <a:ext cx="71280" cy="21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2" name="3 Imagen" descr="049.JP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3 Imagen" descr="NIVEL_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GENDA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11280" y="1197000"/>
            <a:ext cx="794052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et up the Conference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et up the Papers Selection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Agree on the 2014 Conference theme / by-line and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4)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Develop themes / titles for the various technical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5)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uggest names of sessions chair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Draft First Call for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3 Imagen" descr="NIVEL 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41" name="3 Imagen" descr="PLANTA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353960" y="1125360"/>
            <a:ext cx="5036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Conference e-mai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ALA-2014@puertos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68360" y="2492280"/>
            <a:ext cx="820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VIPs Inv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ALA will send information about President or Secretary General of “sister Organizations” and other Authorities, that need to be invited to participate in the Conference, especially in the opening session.</a:t>
            </a:r>
            <a:br>
              <a:rPr sz="2800"/>
            </a:b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ALA and Puertos del Estado will send formal invitations before June 201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84360" y="1341360"/>
            <a:ext cx="80848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IALA- Puertos del Estado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f an agreement between IALA and Puertos del Estado is required, please send the IALA draft to Puertos del Estado for signature, once agreed on contents</a:t>
            </a:r>
            <a:r>
              <a:rPr b="0" lang="es-ES" sz="2800" spc="-1" strike="noStrike">
                <a:solidFill>
                  <a:srgbClr val="1f497d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84360" y="3933720"/>
            <a:ext cx="80848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Expected pri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price can not be defined before Dec.2012, but should not be greater than the price of last Conference and preferrably at least 5% lower.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Industrial ex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 CuadroTexto"/>
          <p:cNvSpPr/>
          <p:nvPr/>
        </p:nvSpPr>
        <p:spPr>
          <a:xfrm>
            <a:off x="324000" y="2349360"/>
            <a:ext cx="8424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tand options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a)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3X3 inside building =  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b) 3x3 entrance building (30)+annex (38) = 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) 3x4 inside building = 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d) 3x4 entrance building (22)+annex (28)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17680" y="981000"/>
            <a:ext cx="574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Registration only for ex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pecific rate only for ex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3 Imagen" descr="IALA-PLANO STANDS 3x3 PLANTA BAJ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62" name="4 Imagen" descr="IALA-PLANO STANDS 3x3 PERÍMETRO E ISLAS HALL ENTRADA.jpg"/>
          <p:cNvPicPr/>
          <p:nvPr/>
        </p:nvPicPr>
        <p:blipFill>
          <a:blip r:embed="rId3"/>
          <a:stretch/>
        </p:blipFill>
        <p:spPr>
          <a:xfrm>
            <a:off x="0" y="404640"/>
            <a:ext cx="7043760" cy="5295960"/>
          </a:xfrm>
          <a:prstGeom prst="rect">
            <a:avLst/>
          </a:prstGeom>
          <a:ln w="0">
            <a:noFill/>
          </a:ln>
        </p:spPr>
      </p:pic>
      <p:pic>
        <p:nvPicPr>
          <p:cNvPr id="163" name="5 Imagen" descr="CARPA PALEXCO POPA.JPG"/>
          <p:cNvPicPr/>
          <p:nvPr/>
        </p:nvPicPr>
        <p:blipFill>
          <a:blip r:embed="rId4"/>
          <a:srcRect l="14042" t="1055" r="14950" b="1577"/>
          <a:stretch/>
        </p:blipFill>
        <p:spPr>
          <a:xfrm>
            <a:off x="6804000" y="836640"/>
            <a:ext cx="1606680" cy="3887640"/>
          </a:xfrm>
          <a:prstGeom prst="rect">
            <a:avLst/>
          </a:prstGeom>
          <a:ln w="0">
            <a:noFill/>
          </a:ln>
        </p:spPr>
      </p:pic>
      <p:sp>
        <p:nvSpPr>
          <p:cNvPr id="164" name="6 CuadroTexto"/>
          <p:cNvSpPr/>
          <p:nvPr/>
        </p:nvSpPr>
        <p:spPr>
          <a:xfrm>
            <a:off x="5870880" y="43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7 CuadroTexto"/>
          <p:cNvSpPr/>
          <p:nvPr/>
        </p:nvSpPr>
        <p:spPr>
          <a:xfrm>
            <a:off x="832068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8 CuadroTexto"/>
          <p:cNvSpPr/>
          <p:nvPr/>
        </p:nvSpPr>
        <p:spPr>
          <a:xfrm>
            <a:off x="6494040" y="551664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otal =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3 Imagen" descr="IALA-PLANO STANDS 4X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grpSp>
        <p:nvGrpSpPr>
          <p:cNvPr id="172" name="13 Grupo"/>
          <p:cNvGrpSpPr/>
          <p:nvPr/>
        </p:nvGrpSpPr>
        <p:grpSpPr>
          <a:xfrm>
            <a:off x="108000" y="404640"/>
            <a:ext cx="6875280" cy="5158080"/>
            <a:chOff x="108000" y="404640"/>
            <a:chExt cx="6875280" cy="5158080"/>
          </a:xfrm>
        </p:grpSpPr>
        <p:pic>
          <p:nvPicPr>
            <p:cNvPr id="173" name="3 Imagen" descr="IALA-PLANO STANDS 4X3.jpg"/>
            <p:cNvPicPr/>
            <p:nvPr/>
          </p:nvPicPr>
          <p:blipFill>
            <a:blip r:embed="rId3"/>
            <a:stretch/>
          </p:blipFill>
          <p:spPr>
            <a:xfrm>
              <a:off x="108000" y="404640"/>
              <a:ext cx="6875280" cy="51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5 Rectángulo"/>
            <p:cNvSpPr/>
            <p:nvPr/>
          </p:nvSpPr>
          <p:spPr>
            <a:xfrm>
              <a:off x="3319560" y="1101600"/>
              <a:ext cx="123804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6 Rectángulo"/>
            <p:cNvSpPr/>
            <p:nvPr/>
          </p:nvSpPr>
          <p:spPr>
            <a:xfrm>
              <a:off x="1074600" y="1101600"/>
              <a:ext cx="54108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7 Rectángulo"/>
            <p:cNvSpPr/>
            <p:nvPr/>
          </p:nvSpPr>
          <p:spPr>
            <a:xfrm>
              <a:off x="842760" y="1333440"/>
              <a:ext cx="23148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8 Rectángulo"/>
            <p:cNvSpPr/>
            <p:nvPr/>
          </p:nvSpPr>
          <p:spPr>
            <a:xfrm>
              <a:off x="1230120" y="2185920"/>
              <a:ext cx="38556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9 Rectángulo"/>
            <p:cNvSpPr/>
            <p:nvPr/>
          </p:nvSpPr>
          <p:spPr>
            <a:xfrm>
              <a:off x="842760" y="3114720"/>
              <a:ext cx="23148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10 Rectángulo"/>
            <p:cNvSpPr/>
            <p:nvPr/>
          </p:nvSpPr>
          <p:spPr>
            <a:xfrm>
              <a:off x="1074600" y="3965760"/>
              <a:ext cx="541080" cy="3096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11 Rectángulo"/>
            <p:cNvSpPr/>
            <p:nvPr/>
          </p:nvSpPr>
          <p:spPr>
            <a:xfrm>
              <a:off x="3241800" y="4043520"/>
              <a:ext cx="131580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12 Rectángulo"/>
            <p:cNvSpPr/>
            <p:nvPr/>
          </p:nvSpPr>
          <p:spPr>
            <a:xfrm>
              <a:off x="3009960" y="5205600"/>
              <a:ext cx="17809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14 Imagen" descr="CARPA POPA STANDS 4x3 m.jpg"/>
          <p:cNvPicPr/>
          <p:nvPr/>
        </p:nvPicPr>
        <p:blipFill>
          <a:blip r:embed="rId4"/>
          <a:srcRect l="14262" t="1161" r="14295" b="1723"/>
          <a:stretch/>
        </p:blipFill>
        <p:spPr>
          <a:xfrm>
            <a:off x="6588000" y="765000"/>
            <a:ext cx="1530360" cy="3672000"/>
          </a:xfrm>
          <a:prstGeom prst="rect">
            <a:avLst/>
          </a:prstGeom>
          <a:ln w="0">
            <a:noFill/>
          </a:ln>
        </p:spPr>
      </p:pic>
      <p:sp>
        <p:nvSpPr>
          <p:cNvPr id="183" name="15 CuadroTexto"/>
          <p:cNvSpPr/>
          <p:nvPr/>
        </p:nvSpPr>
        <p:spPr>
          <a:xfrm>
            <a:off x="5867280" y="42926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6 CuadroTexto"/>
          <p:cNvSpPr/>
          <p:nvPr/>
        </p:nvSpPr>
        <p:spPr>
          <a:xfrm>
            <a:off x="817452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7 CuadroTexto"/>
          <p:cNvSpPr/>
          <p:nvPr/>
        </p:nvSpPr>
        <p:spPr>
          <a:xfrm>
            <a:off x="6383160" y="5445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OTAL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88" name="6 Imagen" descr="CARPA-6 (VISTA PANORÁMICA).jpg"/>
          <p:cNvPicPr/>
          <p:nvPr/>
        </p:nvPicPr>
        <p:blipFill>
          <a:blip r:embed="rId3"/>
          <a:stretch/>
        </p:blipFill>
        <p:spPr>
          <a:xfrm>
            <a:off x="0" y="321300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189" name="5 Imagen" descr="CARPA-4 (LATERAL).JPG"/>
          <p:cNvPicPr/>
          <p:nvPr/>
        </p:nvPicPr>
        <p:blipFill>
          <a:blip r:embed="rId4"/>
          <a:stretch/>
        </p:blipFill>
        <p:spPr>
          <a:xfrm>
            <a:off x="4187880" y="0"/>
            <a:ext cx="4956120" cy="3716280"/>
          </a:xfrm>
          <a:prstGeom prst="rect">
            <a:avLst/>
          </a:prstGeom>
          <a:ln w="0">
            <a:noFill/>
          </a:ln>
        </p:spPr>
      </p:pic>
      <p:sp>
        <p:nvSpPr>
          <p:cNvPr id="190" name="8 CuadroTexto"/>
          <p:cNvSpPr/>
          <p:nvPr/>
        </p:nvSpPr>
        <p:spPr>
          <a:xfrm>
            <a:off x="324000" y="692280"/>
            <a:ext cx="3267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omic Sans MS"/>
              </a:rPr>
              <a:t>ANN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Later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Front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9 Flecha derecha"/>
          <p:cNvSpPr/>
          <p:nvPr/>
        </p:nvSpPr>
        <p:spPr>
          <a:xfrm>
            <a:off x="3059280" y="1484280"/>
            <a:ext cx="979200" cy="485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10 Flecha abajo"/>
          <p:cNvSpPr/>
          <p:nvPr/>
        </p:nvSpPr>
        <p:spPr>
          <a:xfrm>
            <a:off x="2556000" y="24922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GENDA ITEM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1052640"/>
            <a:ext cx="83008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7) Update from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Conference 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2. Conference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3. Conference Director / Organ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8)  Check off the tasks to be carried out against the IALA Guideline  (internal) for the Preparation of a Conference or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Industrial ex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10) Any Othe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10) Any Othe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50920" y="1197000"/>
            <a:ext cx="88930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ala dinner devoted to THLS 500 Anniver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Iberoamerican Meeting- week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before start the Conference (24-25 May)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paperless Conference TBD Dec.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ood Practices Award (Award TB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Next Nov 2012 General Elections in Spain, some decisions must wait for the new Cabi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99" name="WordArt 6"/>
          <p:cNvSpPr txBox="1"/>
          <p:nvPr/>
        </p:nvSpPr>
        <p:spPr>
          <a:xfrm>
            <a:off x="2484360" y="620640"/>
            <a:ext cx="374508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Thank you.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Questions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2)  Set up the Papers Selecti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95280" y="1628640"/>
            <a:ext cx="835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Our proposal is that the Paper Selection should be a task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1f497d"/>
                </a:solidFill>
                <a:latin typeface="Arial"/>
              </a:rPr>
              <a:t>o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PAP group, with a representation of Puertos del Estado,as observer. (Jun-Sep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main aim of papers should be actions for keeping the knowledge or implementing the innovation.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4f81bd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Agree on the 2014 Conference theme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by-line and 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55640" y="1268280"/>
            <a:ext cx="54878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nowledge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84360" y="2492280"/>
            <a:ext cx="82296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Theme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mproving marine navigation safety by knowledge and innovation on aids to nav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mproving AtoN efficiency by knowledge and inno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684360" y="5661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hort: 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toN Knowledge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4f81bd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Agree on the 2014 Conference theme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by-line and logo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788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3"/>
          <p:cNvGrpSpPr/>
          <p:nvPr/>
        </p:nvGrpSpPr>
        <p:grpSpPr>
          <a:xfrm>
            <a:off x="611280" y="2349360"/>
            <a:ext cx="8253360" cy="4103640"/>
            <a:chOff x="611280" y="2349360"/>
            <a:chExt cx="8253360" cy="4103640"/>
          </a:xfrm>
        </p:grpSpPr>
        <p:pic>
          <p:nvPicPr>
            <p:cNvPr id="76" name="Picture 8" descr="Logos IALA-2014 Previos_Page_3"/>
            <p:cNvPicPr/>
            <p:nvPr/>
          </p:nvPicPr>
          <p:blipFill>
            <a:blip r:embed="rId3"/>
            <a:srcRect l="26581" t="16095" r="27837" b="19528"/>
            <a:stretch/>
          </p:blipFill>
          <p:spPr>
            <a:xfrm>
              <a:off x="611280" y="2349360"/>
              <a:ext cx="2736720" cy="27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9" descr="Logos IALA-2014 Previos_Page_4"/>
            <p:cNvPicPr/>
            <p:nvPr/>
          </p:nvPicPr>
          <p:blipFill>
            <a:blip r:embed="rId4"/>
            <a:srcRect l="27642" t="15067" r="29753" b="24754"/>
            <a:stretch/>
          </p:blipFill>
          <p:spPr>
            <a:xfrm>
              <a:off x="2987640" y="3285720"/>
              <a:ext cx="233208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0" descr="Logos IALA-2014 Previos_Page_5"/>
            <p:cNvPicPr/>
            <p:nvPr/>
          </p:nvPicPr>
          <p:blipFill>
            <a:blip r:embed="rId5"/>
            <a:srcRect l="28585" t="18381" r="29895" b="19196"/>
            <a:stretch/>
          </p:blipFill>
          <p:spPr>
            <a:xfrm>
              <a:off x="4859280" y="2349360"/>
              <a:ext cx="209880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1" descr="Logos IALA-2014 Previos_Page_6"/>
            <p:cNvPicPr/>
            <p:nvPr/>
          </p:nvPicPr>
          <p:blipFill>
            <a:blip r:embed="rId6"/>
            <a:srcRect l="28551" t="18019" r="30160" b="14653"/>
            <a:stretch/>
          </p:blipFill>
          <p:spPr>
            <a:xfrm>
              <a:off x="6804000" y="4078080"/>
              <a:ext cx="2060640" cy="237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Text Box 12"/>
          <p:cNvSpPr/>
          <p:nvPr/>
        </p:nvSpPr>
        <p:spPr>
          <a:xfrm>
            <a:off x="900000" y="184464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urrently only as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926640" y="131616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Lo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0" y="1484280"/>
            <a:ext cx="961236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eneral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registrations for one day on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- One matter 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Two hours technical ses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- 5 communications of 20 min.+20 min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our technical sessions 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ne technical session devoted IMC on R+D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ne technical sessions devoted “Good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4"/>
          <p:cNvSpPr/>
          <p:nvPr/>
        </p:nvSpPr>
        <p:spPr>
          <a:xfrm>
            <a:off x="684360" y="1584360"/>
            <a:ext cx="8064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eneral comments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pend some communication on charting (perphaps in e-Nav. matters)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ood Practices session: 10 communications of 10 min. + 20 min.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116000" y="141300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ood Practices template (1-2 p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roblem to b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toN typ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Equipment/servic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e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nowledge ac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8:16:57Z</dcterms:created>
  <dc:creator>JFR</dc:creator>
  <dc:description/>
  <dc:language>en-US</dc:language>
  <cp:lastModifiedBy>Usuario</cp:lastModifiedBy>
  <dcterms:modified xsi:type="dcterms:W3CDTF">2011-10-24T08:26:53Z</dcterms:modified>
  <cp:revision>95</cp:revision>
  <dc:subject/>
  <dc:title>Diapositiva 1</dc:title>
</cp:coreProperties>
</file>