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A20A78-3330-471F-B3BD-5EF051AB4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7C5384-36E6-4C11-852D-D27A38FE1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DADF99-CD7F-450E-8912-D2B6F5655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7EEB5E-73E7-4F31-BAC9-021733161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2BED4B-DF74-48A8-A841-4B287AEE2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F8185E-DE45-44C4-A00E-DF1BC8132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046EB2-9572-49E1-8F06-5DAA2F3B0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C6388F-2CC7-40E8-875D-D48E61139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8765-EE12-4A81-A467-426B18F4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3624-9115-403E-BF0F-BA7320F4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B45-8678-44FF-AEE7-D5E0A7AC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53A-9CEC-4377-BC9A-420F08BB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89F-E0E3-4501-BC65-EE3A606E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C8C-4BEC-4BAB-9A76-5751E474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2DE-B964-436B-A956-3B80A98A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F1A-A502-42C7-9575-62CB451E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223-A61D-4088-9708-7516CA32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F86-D5C8-4D02-B90A-5E4F417C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5AA-23CF-4A9E-8B9B-64D5FA5B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6AA-640B-425E-AA73-6C90B4BC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-WBKGD1"/>
          <p:cNvPicPr/>
          <p:nvPr/>
        </p:nvPicPr>
        <p:blipFill>
          <a:blip r:embed="rId2"/>
          <a:srcRect l="0" t="0" r="0" b="197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F59A-C262-4A7B-B4CF-ECCA4226447B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" name="Picture 9" descr="CGLOGO"/>
          <p:cNvPicPr/>
          <p:nvPr/>
        </p:nvPicPr>
        <p:blipFill>
          <a:blip r:embed="rId3"/>
          <a:stretch/>
        </p:blipFill>
        <p:spPr>
          <a:xfrm>
            <a:off x="7772400" y="14292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IALA%20logo1"/>
          <p:cNvPicPr/>
          <p:nvPr/>
        </p:nvPicPr>
        <p:blipFill>
          <a:blip r:embed="rId4"/>
          <a:srcRect l="0" t="1749" r="831" b="875"/>
          <a:stretch/>
        </p:blipFill>
        <p:spPr>
          <a:xfrm>
            <a:off x="0" y="0"/>
            <a:ext cx="1025640" cy="15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LA e-Navigation Committe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Cai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, IALA e-NAV Committ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 Nick 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 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2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2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ray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e Alexander (US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ji Fukuto (Japa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VTS on e-Navigation Portrayal Guidelines (output/2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943600" y="4816440"/>
            <a:ext cx="3200400" cy="2041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and Updated Work Programme (output/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 elements as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task to manage the IALA domain in IHO S-99 and S-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for P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across IALA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ling numbers/atten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pport for disturbing Committe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4 participants was manageable in ple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 not an issue in W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 status q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NAV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4 registered attende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 new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d the 2010-2014 work program as agreed by Counc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 outpu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 output documents for approval of Counc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raft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raft Guid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draft Information No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liaison notes to other organizations and IALA commit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ing an e-Navigation Mindset – Nick Ward for Andy Nor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wegian test results on S-100 – Jarle Ha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EfficienSea Update – Thomas Christensen (DaM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SEAS Proposal for a North Sea e-Navigation Test Bed – Nick 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ALA e-NAV WG Stru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P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AIS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Architecture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Portray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6553080" y="3733920"/>
          <a:ext cx="16765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733920"/>
                    <a:ext cx="1676520" cy="11001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1" name="Picture 4" descr="AIS"/>
          <p:cNvPicPr/>
          <p:nvPr/>
        </p:nvPicPr>
        <p:blipFill>
          <a:blip r:embed="rId3"/>
          <a:stretch/>
        </p:blipFill>
        <p:spPr>
          <a:xfrm>
            <a:off x="4419720" y="3429000"/>
            <a:ext cx="1523880" cy="111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5867280" y="2133720"/>
            <a:ext cx="1828800" cy="130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North Pacific heavy weather 02"/>
          <p:cNvPicPr/>
          <p:nvPr/>
        </p:nvPicPr>
        <p:blipFill>
          <a:blip r:embed="rId5"/>
          <a:stretch/>
        </p:blipFill>
        <p:spPr>
          <a:xfrm>
            <a:off x="3886200" y="1600200"/>
            <a:ext cx="1676520" cy="114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Object 1"/>
          <p:cNvGraphicFramePr/>
          <p:nvPr/>
        </p:nvGraphicFramePr>
        <p:xfrm>
          <a:off x="4343400" y="5029200"/>
          <a:ext cx="2338560" cy="1598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43400" y="5029200"/>
                    <a:ext cx="23385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3" descr=""/>
          <p:cNvPicPr/>
          <p:nvPr/>
        </p:nvPicPr>
        <p:blipFill>
          <a:blip r:embed="rId8"/>
          <a:stretch/>
        </p:blipFill>
        <p:spPr>
          <a:xfrm>
            <a:off x="6934320" y="5448240"/>
            <a:ext cx="2209680" cy="1409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Patraiko (Nautical Institut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ahesh Alimchandani (Australi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to IMO CG on e-NAV (output/2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d e-Navigation FAQs (output/2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North Pacific heavy weather 02"/>
          <p:cNvPicPr/>
          <p:nvPr/>
        </p:nvPicPr>
        <p:blipFill>
          <a:blip r:embed="rId1"/>
          <a:stretch/>
        </p:blipFill>
        <p:spPr>
          <a:xfrm>
            <a:off x="7315200" y="5607000"/>
            <a:ext cx="1828800" cy="12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NT W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 Douglas (Scot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in Day (Ire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Recommendation on IALA Strategy for Maintaining Racon Service Capability (output/1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planned Output proposal to MSC on Multi-system Shipborne Rcvrs (output/1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181480" y="4952880"/>
            <a:ext cx="39625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AIS"/>
          <p:cNvPicPr/>
          <p:nvPr/>
        </p:nvPicPr>
        <p:blipFill>
          <a:blip r:embed="rId1"/>
          <a:stretch/>
        </p:blipFill>
        <p:spPr>
          <a:xfrm>
            <a:off x="6400800" y="5451480"/>
            <a:ext cx="2743200" cy="1406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S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f Zetterberg (Swe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rge Arroyo (USA) 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revised IALA Rec. A-124 with Appendi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utputs/6-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ITU-R on proposed revision of M.1371-4  (output/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IEC on ITU M.1371-4 (output/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ANM on minor changes to O-139 (output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cations W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RelationshipMode_revised"/>
          <p:cNvPicPr/>
          <p:nvPr/>
        </p:nvPicPr>
        <p:blipFill>
          <a:blip r:embed="rId1"/>
          <a:stretch/>
        </p:blipFill>
        <p:spPr>
          <a:xfrm>
            <a:off x="6705720" y="5089680"/>
            <a:ext cx="2438280" cy="176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Kautz (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 Blackhurst (INMARSAT) (apolog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note on Essential Communications Elements of e-Navigation (output/1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ITU-R WP5B on Spectrum Requirements for e-Navigation (output/1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RTCM (output/2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-Hendrik Oltmann (German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Mueller (Tideland)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paper on IALA Participation in IHO Geospatial Information Registry (output/1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ting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Ow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1"/>
          <p:cNvGraphicFramePr/>
          <p:nvPr/>
        </p:nvGraphicFramePr>
        <p:xfrm>
          <a:off x="5867280" y="4807080"/>
          <a:ext cx="3159360" cy="20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807080"/>
                    <a:ext cx="315936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5:53:10Z</dcterms:created>
  <dc:creator>nickw</dc:creator>
  <dc:description/>
  <dc:language>en-US</dc:language>
  <cp:lastModifiedBy>William R Cairns</cp:lastModifiedBy>
  <dcterms:modified xsi:type="dcterms:W3CDTF">2011-10-05T11:35:53Z</dcterms:modified>
  <cp:revision>105</cp:revision>
  <dc:subject/>
  <dc:title>PowerPoint Presentation</dc:title>
</cp:coreProperties>
</file>